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F1A-DD0C-44F0-9601-8C8B4EF8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040-B3D0-450D-878D-9D0B1AD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622-8C27-4EE5-B60F-01B64A3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550-2BD5-4C38-A41D-25823C82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2F2-5504-4C2C-8ED5-24E83141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15D-AEB6-4107-B4F5-0FE301B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433-01DA-42AE-9859-49B48F49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844-F058-4802-8732-14606EA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732-7BD0-4C8A-8B2E-BC938A4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0C9-1D53-4B71-B4E5-EBD073E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B70-A4D0-4FB5-9FA1-1755D3E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91-2EF1-4795-97F3-918B2F3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08D5-B3DB-4B10-B0A5-1C9D293CA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1219320" y="1295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42670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185440" y="5373720"/>
            <a:ext cx="348012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age d’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matière de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76880" y="692280"/>
            <a:ext cx="553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tre objectif dans le cadre de votre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tre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futur, l’avenir de l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: le 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nagement des ressources tech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06200" y="4267080"/>
            <a:ext cx="45910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doit savoir faire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36880" y="990720"/>
            <a:ext cx="2105640" cy="1557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lan actu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s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2718000" y="0"/>
            <a:ext cx="4809240" cy="45972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oblème des compétences pou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3809880" y="152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cueil de données, ve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95288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706840" y="1523880"/>
            <a:ext cx="2170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spective tech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420800" y="990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65760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5720" y="2411280"/>
            <a:ext cx="2873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riables clés et scé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turs pos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04920" y="304920"/>
            <a:ext cx="19047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dit inter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27520" y="990720"/>
            <a:ext cx="2105640" cy="1557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lan 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s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029200" y="1523880"/>
            <a:ext cx="1676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219320" y="1295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6858000" y="160020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utres analy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fish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04080" y="2514600"/>
            <a:ext cx="1438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pa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vec con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7913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150320" y="2500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ide à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76201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838080" y="3657600"/>
            <a:ext cx="7620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hèse: roadmapp, grille de maturité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42670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357720" y="4937040"/>
            <a:ext cx="2096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Établissement de la stratégie M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nrichissement: com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ptimisation : com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auvegar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ba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44197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501720" y="6172200"/>
            <a:ext cx="5110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 d’action et listes de projets à l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7"/>
          <p:cNvSpPr/>
          <p:nvPr/>
        </p:nvSpPr>
        <p:spPr>
          <a:xfrm>
            <a:off x="152280" y="1522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5867280" y="380880"/>
            <a:ext cx="38124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8763120" y="6248520"/>
            <a:ext cx="30456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4419720" y="2057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6400800" y="19810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5"/>
          <p:cNvSpPr/>
          <p:nvPr/>
        </p:nvSpPr>
        <p:spPr>
          <a:xfrm>
            <a:off x="8305920" y="19810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6"/>
          <p:cNvSpPr/>
          <p:nvPr/>
        </p:nvSpPr>
        <p:spPr>
          <a:xfrm>
            <a:off x="609480" y="39625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200400" y="6095880"/>
            <a:ext cx="380880" cy="3812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3200400" y="63244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5791320" y="495288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2"/>
          <p:cNvSpPr/>
          <p:nvPr/>
        </p:nvSpPr>
        <p:spPr>
          <a:xfrm>
            <a:off x="6400800" y="380880"/>
            <a:ext cx="3049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3"/>
          <p:cNvSpPr/>
          <p:nvPr/>
        </p:nvSpPr>
        <p:spPr>
          <a:xfrm>
            <a:off x="0" y="5335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4"/>
          <p:cNvSpPr/>
          <p:nvPr/>
        </p:nvSpPr>
        <p:spPr>
          <a:xfrm>
            <a:off x="2438280" y="1676520"/>
            <a:ext cx="3049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5"/>
          <p:cNvSpPr/>
          <p:nvPr/>
        </p:nvSpPr>
        <p:spPr>
          <a:xfrm>
            <a:off x="2806200" y="4267080"/>
            <a:ext cx="45910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doit savoir faire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42670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226800" y="5181480"/>
            <a:ext cx="282636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age d’aujourd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les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53:50Z</dcterms:created>
  <dc:creator>ENSGSI</dc:creator>
  <dc:description/>
  <dc:language>en-US</dc:language>
  <cp:lastModifiedBy>boly23</cp:lastModifiedBy>
  <dcterms:modified xsi:type="dcterms:W3CDTF">2011-11-24T15:14:46Z</dcterms:modified>
  <cp:revision>6</cp:revision>
  <dc:subject/>
  <dc:title>Présentation PowerPoint</dc:title>
</cp:coreProperties>
</file>